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wmf" ContentType="image/x-wmf"/>
  <Override PartName="/ppt/media/image23.png" ContentType="image/pn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30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20.wmf" ContentType="image/x-wmf"/>
  <Override PartName="/ppt/media/image26.jpeg" ContentType="image/jpeg"/>
  <Override PartName="/ppt/media/image21.png" ContentType="image/png"/>
  <Override PartName="/ppt/media/image11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E6C-BF28-4082-8A65-DCE67D61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BCC-7120-47C9-AF44-CC1CCAB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9F40-55DE-4800-9F39-2C5A9DCF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91A34-445A-4C3F-B961-535C7A8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7D01-1175-4C5F-9892-57A9D61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79C80-771B-4580-B229-B38A794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61384-2C18-458C-8E68-B4F6464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7F6E2-D3B0-41B7-9737-65EF5B7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74674-C2B2-4A60-9B04-ED366A4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B7E80-8610-4BE5-A46E-E564D11D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1517-6D33-444F-BAF3-87B7B638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D9B4-D3F9-4156-8FBF-3F71C86B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D49-BEA0-4A58-8C32-78C0F07E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660A2-0848-4C35-ACA9-9D8ED94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C4059-C559-45C3-97B2-24A19AD3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0A0CC-5E33-436D-BB8A-5F989872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35623-10EB-4756-9DAF-BEC4C51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24BDB-AA51-4069-8198-7728B24A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B9A9C-66A8-4BE9-9875-26E306D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6197E-3697-427F-AC2A-B5BFA0E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A872-E994-4EC5-AEA2-D8E6277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E2EB-2770-44F6-96BD-2EB1AA0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D3793-D77C-4388-8D04-BDA0341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D0B-6EAC-46F6-B0B3-CEFC49A7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0ABC7-D47B-49F8-B0BF-9CE94B95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873769-D191-4E19-BEC9-66D657F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6F96CC-9731-4809-9326-0BCAA4F0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45F092-AA47-425B-9EBB-7FDE8A3C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A6B13-3AD1-4AE7-9AF6-01A81A4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D7FEBC-6972-4D41-AD9A-1F53F2C3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FAE1A-1897-4516-A68C-6A627D6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3B0377-D739-4BD2-8397-21AD8EEF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5CF2FA-1804-41FC-9596-FD55136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5A3D0-BEB3-4D5A-9683-35EAB6B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2089-18BA-46CA-A3BA-E98011A6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7302BA-9B7A-4869-893E-530F0DC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B4A11-729A-4352-AB85-C775A569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392846-6EE5-4612-B1A3-C4262FD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4028B-364D-4115-BE3A-3AFEBD87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411D3-3D2B-4F04-A47D-58827BF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6CDD2-A5EA-40E4-87BE-1A17A4CD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D22D6-0E08-4304-AFF6-4CF9979D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8DBA-9137-4350-8464-E49E1C0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272E3-C30C-4130-BE5D-4CD05962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206C-3EB8-4DD6-B5E8-E760227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75F-A4DF-4EED-897B-CABD169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F9FE0-C3BF-4FBC-A1B3-D54A74C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13E28-4B86-40D4-BF6F-B21BA42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D733E-A505-4A56-8B3B-102659F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114F5-80E9-4272-B3C2-18F49EA5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C95CF-2FC3-4563-91B8-C0CBABFB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644A7-22C8-4A8F-B1A1-9411105E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32239-402A-4F67-AD21-E4BB5BA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37189-B744-4F10-90C7-0FA31B3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00E34-182A-44B8-A8C1-985D8CBD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3F1F3-989D-4F82-9DD3-2326B62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16C-4100-4EF6-A316-20358DB7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0EAEC-9A37-4094-81A6-FD77F38C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34C99-4862-4E59-84B0-D333A18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BBD82-1435-435C-8CB0-C0E9E7A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9680B-E62C-4669-BC64-4B23009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C5B71-0682-4FD2-8447-81621AB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303ED-2F08-4D83-ADF1-2117E718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EDD91-31E2-4157-A0F3-6650F89F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5403B-B1CF-4734-95B9-3A83125C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84535-8F1C-4313-AA10-A7E75C30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C94A3-97BF-4554-AA39-E294362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20C4-71EA-4AD3-A45D-9A211C8C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F5184-2A40-422B-AF77-1CFB2E9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2D1F3-3613-468A-B302-0A91596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F01DC-72A0-4FFB-9ED1-67DF020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3442E-AC4E-4C97-B004-761C24E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E2117-3577-43B3-9051-ECF9813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1C775-06ED-4E90-840A-5E8580A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F7372-51BA-49FD-85A3-9F009DF5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F8A67-E712-4669-80F8-4202E8B3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042F9-D6EF-444D-9474-56F6BC0C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F0D57-33D4-4A98-B6E1-27F3631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E098-4250-4A03-BF98-2A37CF5A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D3E3D-D056-4DF9-AAB7-FAC96D73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9B5FD-6A16-4AE3-A7CC-A009F54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50403-C3A5-4CF2-BBD5-C74F2281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96549-61C7-43EE-BDFD-56C8FBD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99375-80B8-4884-B476-09FDCA6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52913-A527-4DC3-AC09-712DBC8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D8DFA-6F4D-4CC5-9BD8-33C4CDD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160FC-B940-494C-9CD0-D3993F1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1F417-5D19-47B7-ADE8-949CDF2F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F6848-4B42-49A3-9BD0-E1DFF4DE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00AE-A429-4A12-94F6-0F21706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865F3-22BA-429B-A848-6177B7C1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BE436-F09D-4719-8744-E1033A0C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7520D-D094-4733-9927-1AF9C02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4886D-DCAC-4FB5-A64E-5D623BF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A6DCE-B83D-4DA0-9F35-99D7388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8A899-A677-483A-94EF-2151914A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D922A-C6ED-4DA1-BE2E-C7FBD48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DEDEF-53A5-4BED-AF9A-1715EA1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AD0A5-C325-42B2-BDB5-8FED1E7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DF8B1-DC26-4E08-940F-08F38D2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0309-DF10-4DA9-9063-DA09B9A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6CC81-E39C-456E-8914-77DB433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84DD6-9B4E-4863-A5A8-2B556797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A220E-5999-4F79-8B37-7FB2CFAD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79A-37EF-4C44-B349-947F2F8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C6AB-6D99-4D25-A714-C94533C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124E-DBED-4EBD-BF1C-8352B131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8F5F-917D-4C7D-8B8E-355B72E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E53C-FC3E-4A44-AC3D-743443E6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8C36-A538-4F19-84C2-A628F22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1CE4-B134-4F22-A4C7-8919086A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2CA3-5115-45D0-938D-9028086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902F-8801-4AB3-94A0-63EA659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B76C-0123-4C1F-92F1-870E219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3C68-8B29-4CEB-8DFA-440362D8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C82-8FA4-4491-881C-7089764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CA9E-D99C-4617-A96B-C1C3B650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6AB9-9C90-4524-9CE0-8315C13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1A3B-3777-4CE2-873D-679A0C7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07AE-D968-4D6C-97E3-159B1E1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592F-62AE-4E4B-86E9-05EDB86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564F-F71D-431B-9211-9BAE4927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1679-2593-42E7-A5F0-E3D43D97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F070E-B8B0-49A3-8530-AEDAFE6B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C63FA-A862-4382-8CF3-E03078F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1CCDF-FD04-4149-9091-7EB6510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C0F-1CF0-4AB0-A70B-DE95B99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2941E-9FF8-4314-930B-C5528E1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608C2-2CCF-4C5D-B819-1ED6319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F4BF9-2AE7-43B2-A0F8-3A4E381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5178A-4485-498D-AB41-3E39BFC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7A919-F4DD-4403-BEF8-E226FBE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984F2-A3A5-4147-8220-6179E9E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23905-4193-40F4-AAB5-7F70486E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CAAF1-E7C4-4598-A1A4-4DD8A460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F93A9-A774-455F-91F7-E1289A20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D9483-4B0E-46A8-BAEA-7DCFE95E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558-A8A8-487E-9B19-92000D1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45254-A7EE-4E51-8CF1-4F138E8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346ED-23DB-40C1-9BA4-D87DD1F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EE714-DDEC-4198-BA18-27221C8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2875B-1F5A-4C5A-9164-E83F005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B98E2-C0E3-4011-8751-19B69F81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AA363-F69D-4912-A286-54894D6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FD5FA-339B-4A34-B5B1-D60C1B3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7FC6D-6CBB-4863-ABFC-DF45F6D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7CD49-E3DE-480A-BEE6-331A8E6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B4BDB-49D8-4C97-ACA5-84EEB202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727-F136-475C-9993-5EB71E8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424D5-414B-43A6-A94A-7AE6C931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894F2-B152-407F-B4BC-FB90ACC4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A9B25-5089-46BA-B0DB-8C48364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31150-DF76-4E07-82B5-FDFCAD4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6586-F138-4D7A-A66D-FB930B0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FF23-29CC-4FAD-A20E-55A2534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50E2-4EFF-47E2-9014-9A775885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7C2E-130C-4D10-8C6F-87DFD24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7B4A7-C773-4BD0-B68E-A38C4A8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0700-AB77-4B06-A631-E3214B8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ABB-E7E6-4C87-B0BC-F539F2F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74AD-4F1F-4D48-A68A-0085B815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37FC-5A23-4E61-9A0D-2215C67E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8DB6-2509-4D8B-9A4E-DDABBC82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09E9-9689-40D0-9C47-E2ED145B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40AFA-A8C8-4E36-BB10-DBBFE5C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453F-FAD0-4650-8F2A-1BDCED5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6985-A542-4C00-BCD2-502893A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24033-D9B9-42FC-9D24-B7389D31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C888-D87C-49B5-AC2F-062D1B7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3413-D4FF-4C9F-B15C-B6A8121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B8E-FCD5-4D4B-842F-F240CAD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8BC8-3027-4461-9F27-B161A2C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53A8-627E-4772-AB5C-AB2192B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3040-417E-45BE-B280-B20020B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A46B-7A05-4E05-A8F3-6D13A98D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A07A-0309-4510-8C9D-37E42501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EA8A-BF2A-4B50-9875-6C82A9E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84D4-C0E6-48A0-9BE9-04705A2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4EAF-2213-418F-9FB2-CB9E9729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431CE-E4BA-411A-A7F4-B7673BB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264E-4EC8-4B05-B739-810A4686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B18-61DB-48D8-85B0-76FFC8B1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EA25-2C57-4345-A559-97EB7FE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3D6C5-7CBE-4338-9D11-8290C1C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7C98C-9CF4-41EC-BDF9-151B1A9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644D-4417-4886-BCC6-93EFF82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4640-995B-472C-92BD-4CBB830B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672B-A3DF-40AE-BAAC-66832914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D060-82E2-4B1B-BFB4-ABF917D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ABC04-245A-4681-A6BF-C907B993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3F17-3435-4AA7-8F5E-68CB0A6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A8262-3E9A-4C42-9ACE-07F54748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816A-14DD-4397-96F1-7EE936BF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85FB-1CBB-45C0-8AB8-8356FBBB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5ED-9F39-4D38-A031-96A39F934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C71-6C37-465B-9568-4B2A48739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665-DAA2-45EA-8781-25D7822A2A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7EB1-5148-45F8-A7DF-80132321ED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F53-9E3C-4F67-8C23-889A52B3855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025-D574-4624-853E-B1B66A6B59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BC85-5D43-4A9D-B519-716CDDC4C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F60-84FA-495E-96B8-A6ED4F54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36A-DECA-47AE-91BE-EF88FC159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EA4-7B55-4863-B741-E393E4903A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F38-60F1-441F-9B01-A547DC2063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2E2-48EC-41FB-BBC5-CEDAAE6DE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B21-FB57-42F1-AC0D-24A03D9DA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F5A-F584-41CF-ABA2-C62AC702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Garamond"/>
              </a:rPr>
              <a:t>La 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Julia Sic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238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Mi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La casa es r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  <a:ea typeface="Tahoma"/>
              </a:rPr>
              <a:t>ú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stico. Es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086600" cy="35053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1904760" cy="18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-2514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B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876560" cy="395604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32200" y="3276720"/>
            <a:ext cx="29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na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361960" cy="157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257800" cy="34052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5335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5400" y="178596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a sala. Es un tropica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2971800" cy="229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omed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511440" cy="45529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578160" y="14050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comedor. Es gra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2667240" cy="181944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7315200" y="3581280"/>
            <a:ext cx="1289160" cy="17607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191120" y="4648320"/>
            <a:ext cx="25668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683280" y="16336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jardin boni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5314680" cy="33256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1652760" cy="17463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772200" y="178596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a cocina. Es un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 rot="20382000">
            <a:off x="5715000" y="510552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 rot="1119600">
            <a:off x="304920" y="236196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04320" y="338040"/>
            <a:ext cx="277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Tahoma"/>
              </a:rPr>
              <a:t>El Cuar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968040" y="16336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ES un cuarto fabul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867640" cy="39117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2322360" cy="2210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  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133360" cy="1827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962520" y="762120"/>
            <a:ext cx="1373040" cy="179208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4"/>
          <a:stretch/>
        </p:blipFill>
        <p:spPr>
          <a:xfrm>
            <a:off x="6553080" y="114300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5"/>
          <a:stretch/>
        </p:blipFill>
        <p:spPr>
          <a:xfrm>
            <a:off x="2743200" y="3124080"/>
            <a:ext cx="3990960" cy="2857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57Z</dcterms:created>
  <dc:creator>sicardjul</dc:creator>
  <dc:description/>
  <dc:language>en-US</dc:language>
  <cp:lastModifiedBy>sicardjul</cp:lastModifiedBy>
  <dcterms:modified xsi:type="dcterms:W3CDTF">2011-10-26T13:57:54Z</dcterms:modified>
  <cp:revision>6</cp:revision>
  <dc:subject/>
  <dc:title>La  Casa</dc:title>
</cp:coreProperties>
</file>